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B1CC-29C6-4D77-B74A-9E6B24019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3A61-2F1D-4E98-A4BB-E2C1814CA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37C1-A90A-4957-B522-951A140B9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A45B-D960-4802-8B07-4B6A430C1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3A8B-F8F2-4C72-9503-065ECF828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8851-6A42-49D2-89F8-AA1773250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4C69-15E7-4E0C-A615-8A718169B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3D68-F1AB-440E-937E-5D4C3EC19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95A6-7EB4-4C6F-9DB6-0C569E643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FF3D-3BB4-4CF1-9941-7E2D6A35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F778-4F47-4500-B58C-AF69DD58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4D9D-1A50-4CFC-BCB7-50B40440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83220-320C-4FA9-AB0B-D6C587CADF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3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533520" y="228600"/>
            <a:ext cx="4727520" cy="354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الاتقا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لنجاح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3" name="OUTPUT_000052" descr=""/>
          <p:cNvPicPr/>
          <p:nvPr/>
        </p:nvPicPr>
        <p:blipFill>
          <a:blip r:embed="rId2"/>
          <a:stretch/>
        </p:blipFill>
        <p:spPr>
          <a:xfrm>
            <a:off x="1371600" y="411480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2370240" y="3195720"/>
            <a:ext cx="1820880" cy="69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جمال ماضى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3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1752480" y="2743200"/>
            <a:ext cx="5334120" cy="106668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2286000" y="2932200"/>
            <a:ext cx="419112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طرق تحسي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قدرات الذهني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41" name=""/>
          <p:cNvSpPr/>
          <p:nvPr/>
        </p:nvSpPr>
        <p:spPr>
          <a:xfrm>
            <a:off x="1274760" y="1371600"/>
            <a:ext cx="6040440" cy="12794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5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579680" y="1538280"/>
            <a:ext cx="5486400" cy="96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ليست مرضا ولكنها حالة عابر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تحدث لأسباب خارحية مثل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مشاغل وضيق الوقت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43" name=""/>
          <p:cNvSpPr/>
          <p:nvPr/>
        </p:nvSpPr>
        <p:spPr>
          <a:xfrm>
            <a:off x="6172200" y="3886200"/>
            <a:ext cx="2971800" cy="16002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324480" y="4102200"/>
            <a:ext cx="2595600" cy="113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نشط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ذهنك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45" name=""/>
          <p:cNvSpPr/>
          <p:nvPr/>
        </p:nvSpPr>
        <p:spPr>
          <a:xfrm>
            <a:off x="3200400" y="3886200"/>
            <a:ext cx="2971800" cy="15238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348000" y="4079880"/>
            <a:ext cx="25956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غذاء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متنوع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47" name=""/>
          <p:cNvSpPr/>
          <p:nvPr/>
        </p:nvSpPr>
        <p:spPr>
          <a:xfrm>
            <a:off x="6172200" y="5486400"/>
            <a:ext cx="2971800" cy="1447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319800" y="5657760"/>
            <a:ext cx="2595600" cy="10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تجنب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توتر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49" name=""/>
          <p:cNvSpPr/>
          <p:nvPr/>
        </p:nvSpPr>
        <p:spPr>
          <a:xfrm>
            <a:off x="76320" y="3886200"/>
            <a:ext cx="3124080" cy="16002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243000" y="4102200"/>
            <a:ext cx="2728800" cy="113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سترح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قليلا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51" name=""/>
          <p:cNvSpPr/>
          <p:nvPr/>
        </p:nvSpPr>
        <p:spPr>
          <a:xfrm>
            <a:off x="3200400" y="5410080"/>
            <a:ext cx="2971800" cy="15242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348000" y="5603760"/>
            <a:ext cx="25956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ورق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القلم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53" name=""/>
          <p:cNvSpPr/>
          <p:nvPr/>
        </p:nvSpPr>
        <p:spPr>
          <a:xfrm>
            <a:off x="76320" y="5486400"/>
            <a:ext cx="3124080" cy="1447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243000" y="5657760"/>
            <a:ext cx="2728800" cy="10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ممارس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رياض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55" name=""/>
          <p:cNvSpPr/>
          <p:nvPr/>
        </p:nvSpPr>
        <p:spPr>
          <a:xfrm>
            <a:off x="2286000" y="152280"/>
            <a:ext cx="4191120" cy="114300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2590920" y="453960"/>
            <a:ext cx="3508200" cy="69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تحسين القدرات الذهني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3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274760" y="1371600"/>
            <a:ext cx="6040440" cy="914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579680" y="1447920"/>
            <a:ext cx="5486400" cy="74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مسح نظارتك أو بدلها بنظارة جديد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60" name=""/>
          <p:cNvSpPr/>
          <p:nvPr/>
        </p:nvSpPr>
        <p:spPr>
          <a:xfrm>
            <a:off x="6172200" y="3886200"/>
            <a:ext cx="2971800" cy="16002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705720" y="4102200"/>
            <a:ext cx="1909800" cy="113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أسرتى ليست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منسجمة معى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62" name=""/>
          <p:cNvSpPr/>
          <p:nvPr/>
        </p:nvSpPr>
        <p:spPr>
          <a:xfrm>
            <a:off x="3200400" y="3886200"/>
            <a:ext cx="2971800" cy="15238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581280" y="4079880"/>
            <a:ext cx="20574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لا أطيق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دراس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64" name=""/>
          <p:cNvSpPr/>
          <p:nvPr/>
        </p:nvSpPr>
        <p:spPr>
          <a:xfrm>
            <a:off x="6172200" y="5486400"/>
            <a:ext cx="2971800" cy="1447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553080" y="5657760"/>
            <a:ext cx="1981440" cy="10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صديقى غير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فى معى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66" name=""/>
          <p:cNvSpPr/>
          <p:nvPr/>
        </p:nvSpPr>
        <p:spPr>
          <a:xfrm>
            <a:off x="76320" y="3886200"/>
            <a:ext cx="3124080" cy="16002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4102200"/>
            <a:ext cx="2195280" cy="113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لا أحد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يفهمنى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يعرفنى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68" name=""/>
          <p:cNvSpPr/>
          <p:nvPr/>
        </p:nvSpPr>
        <p:spPr>
          <a:xfrm>
            <a:off x="3200400" y="5410080"/>
            <a:ext cx="2971800" cy="15242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657600" y="5603760"/>
            <a:ext cx="19670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أتمنى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تغيير</a:t>
            </a: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مدرس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70" name=""/>
          <p:cNvSpPr/>
          <p:nvPr/>
        </p:nvSpPr>
        <p:spPr>
          <a:xfrm>
            <a:off x="76320" y="5486400"/>
            <a:ext cx="3124080" cy="1447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700200" y="5657760"/>
            <a:ext cx="1814400" cy="10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لا يهتم بى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أمى وأبى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152280"/>
            <a:ext cx="4191120" cy="114300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590920" y="453960"/>
            <a:ext cx="3508200" cy="69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أيها المراه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74" name=""/>
          <p:cNvSpPr/>
          <p:nvPr/>
        </p:nvSpPr>
        <p:spPr>
          <a:xfrm>
            <a:off x="228600" y="2362320"/>
            <a:ext cx="863136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2514600"/>
            <a:ext cx="8153280" cy="97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قريبون يسيئون إلى فيرى العالم كما يحب أن يراه هو وليس كما العالم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تحوى الدنيا المتضادات هيا نمسح الغبارعن النظارة أو نستبدلها بنظارة أخرى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3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2438280" y="5500800"/>
            <a:ext cx="426744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8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2666880" y="5638680"/>
            <a:ext cx="3807000" cy="97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يقول الإمام على بن أبى طالب : الحلم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غطاء ساتر والعقل حسام قاطع فاستر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خلل عقلك بحلمك وقاتل هواك بعقلك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79" name=""/>
          <p:cNvSpPr/>
          <p:nvPr/>
        </p:nvSpPr>
        <p:spPr>
          <a:xfrm>
            <a:off x="76320" y="1600200"/>
            <a:ext cx="2286000" cy="13082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276120" y="1816200"/>
            <a:ext cx="1857600" cy="92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فى نفوسنا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عقولنا كنوز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لا تحصى علينا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كشفها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81" name=""/>
          <p:cNvSpPr/>
          <p:nvPr/>
        </p:nvSpPr>
        <p:spPr>
          <a:xfrm>
            <a:off x="838080" y="76320"/>
            <a:ext cx="7239240" cy="144756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1447920" y="453960"/>
            <a:ext cx="6095880" cy="69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أيها المراهق أنظر إلى الحياة بايجابي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83" name=""/>
          <p:cNvSpPr/>
          <p:nvPr/>
        </p:nvSpPr>
        <p:spPr>
          <a:xfrm>
            <a:off x="6781680" y="1616040"/>
            <a:ext cx="2362320" cy="12794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6934320" y="1752480"/>
            <a:ext cx="2046240" cy="105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نرى الجانب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مملوء من الإناء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ليس الفارغ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85" name=""/>
          <p:cNvSpPr/>
          <p:nvPr/>
        </p:nvSpPr>
        <p:spPr>
          <a:xfrm>
            <a:off x="4572000" y="1600200"/>
            <a:ext cx="2209680" cy="1295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876920" y="1752480"/>
            <a:ext cx="1600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ايمان بأن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للكون مدبرا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لا يخلق شرا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87" name=""/>
          <p:cNvSpPr/>
          <p:nvPr/>
        </p:nvSpPr>
        <p:spPr>
          <a:xfrm>
            <a:off x="2362320" y="1600200"/>
            <a:ext cx="2209680" cy="1295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2590920" y="1739880"/>
            <a:ext cx="1827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بحث عن المفيد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فى كل شىء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حداد الذى يعيد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تصنيع النشار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2895480"/>
            <a:ext cx="2362320" cy="12798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6934320" y="2971800"/>
            <a:ext cx="20462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تفكر دائما فى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بناء وليس الهدم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فلا تحسد ولا تكره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91" name=""/>
          <p:cNvSpPr/>
          <p:nvPr/>
        </p:nvSpPr>
        <p:spPr>
          <a:xfrm>
            <a:off x="4572000" y="2895480"/>
            <a:ext cx="2209680" cy="1295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648320" y="3048120"/>
            <a:ext cx="2057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نحب أنفسنا دون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غرور ونحب الآخرين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دون تبعية أو امتهان 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93" name=""/>
          <p:cNvSpPr/>
          <p:nvPr/>
        </p:nvSpPr>
        <p:spPr>
          <a:xfrm>
            <a:off x="2362320" y="2895480"/>
            <a:ext cx="2209680" cy="1295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2438280" y="3035160"/>
            <a:ext cx="1981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تفاءلوا بالخير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تجدوه</a:t>
            </a: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كثير فشل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لكنه نجح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95" name=""/>
          <p:cNvSpPr/>
          <p:nvPr/>
        </p:nvSpPr>
        <p:spPr>
          <a:xfrm>
            <a:off x="76320" y="2895480"/>
            <a:ext cx="2286000" cy="13082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152280" y="2971800"/>
            <a:ext cx="2086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واقع المر لا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يتغير إلا بالتدريج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قطرات الماء تقطع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صخرة العظيم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97" name=""/>
          <p:cNvSpPr/>
          <p:nvPr/>
        </p:nvSpPr>
        <p:spPr>
          <a:xfrm>
            <a:off x="76320" y="4191120"/>
            <a:ext cx="2286000" cy="13078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228600" y="4406760"/>
            <a:ext cx="1933560" cy="92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نجاح مرهون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بالعمل والصبر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ليس بالتمنى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99" name=""/>
          <p:cNvSpPr/>
          <p:nvPr/>
        </p:nvSpPr>
        <p:spPr>
          <a:xfrm>
            <a:off x="6781680" y="4191120"/>
            <a:ext cx="2362320" cy="1295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7097760" y="4427640"/>
            <a:ext cx="1817640" cy="90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مصائب كلها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حكم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فى النهاي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0" y="4191120"/>
            <a:ext cx="2209680" cy="1295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648320" y="4343400"/>
            <a:ext cx="2057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عيوب يمكن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تصحيحها بالاتقان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الذنوب بالتوب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303" name=""/>
          <p:cNvSpPr/>
          <p:nvPr/>
        </p:nvSpPr>
        <p:spPr>
          <a:xfrm>
            <a:off x="2362320" y="4191120"/>
            <a:ext cx="2209680" cy="1295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2592360" y="4330800"/>
            <a:ext cx="175104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نحن مسئولون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عن أنفسنا</a:t>
            </a: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لا غيرنا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305" name=""/>
          <p:cNvSpPr/>
          <p:nvPr/>
        </p:nvSpPr>
        <p:spPr>
          <a:xfrm>
            <a:off x="6781680" y="5486400"/>
            <a:ext cx="2362320" cy="1371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6934320" y="5715000"/>
            <a:ext cx="20462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رضا نتائج أعمالنا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حتى ولو كانت صغير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نجدد العزم ونتوكل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على الله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307" name=""/>
          <p:cNvSpPr/>
          <p:nvPr/>
        </p:nvSpPr>
        <p:spPr>
          <a:xfrm>
            <a:off x="76320" y="5486400"/>
            <a:ext cx="2286000" cy="13082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228600" y="5562720"/>
            <a:ext cx="198108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نحب الصحة والقو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العلم والثقافةوالتفوق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نسامح ولا نعادى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3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1981080" y="0"/>
            <a:ext cx="5257800" cy="83808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1523880"/>
            <a:ext cx="4267080" cy="6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343400" y="1709640"/>
            <a:ext cx="457200" cy="401760"/>
          </a:xfrm>
          <a:prstGeom prst="leftArrow">
            <a:avLst>
              <a:gd name="adj1" fmla="val 50000"/>
              <a:gd name="adj2" fmla="val 28450"/>
            </a:avLst>
          </a:prstGeom>
          <a:solidFill>
            <a:srgbClr val="ff00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231840" y="1600200"/>
            <a:ext cx="3806640" cy="44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هذه المهمة ليست سهلة ولكن أستطيع القيام بها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2133720"/>
            <a:ext cx="4267080" cy="547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343400" y="2286000"/>
            <a:ext cx="457200" cy="401760"/>
          </a:xfrm>
          <a:prstGeom prst="leftArrow">
            <a:avLst>
              <a:gd name="adj1" fmla="val 50000"/>
              <a:gd name="adj2" fmla="val 28450"/>
            </a:avLst>
          </a:prstGeom>
          <a:solidFill>
            <a:srgbClr val="ff00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84120" y="2224080"/>
            <a:ext cx="3502080" cy="3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هدىء أعصابك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2666880"/>
            <a:ext cx="4267080" cy="547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2743200"/>
            <a:ext cx="457200" cy="401760"/>
          </a:xfrm>
          <a:prstGeom prst="leftArrow">
            <a:avLst>
              <a:gd name="adj1" fmla="val 50000"/>
              <a:gd name="adj2" fmla="val 28450"/>
            </a:avLst>
          </a:prstGeom>
          <a:solidFill>
            <a:srgbClr val="ff00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3200400"/>
            <a:ext cx="4267080" cy="6094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343400" y="3352680"/>
            <a:ext cx="457200" cy="401760"/>
          </a:xfrm>
          <a:prstGeom prst="leftArrow">
            <a:avLst>
              <a:gd name="adj1" fmla="val 50000"/>
              <a:gd name="adj2" fmla="val 28450"/>
            </a:avLst>
          </a:prstGeom>
          <a:solidFill>
            <a:srgbClr val="ff00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3809880"/>
            <a:ext cx="4267080" cy="6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343400" y="3886200"/>
            <a:ext cx="457200" cy="401760"/>
          </a:xfrm>
          <a:prstGeom prst="leftArrow">
            <a:avLst>
              <a:gd name="adj1" fmla="val 50000"/>
              <a:gd name="adj2" fmla="val 28450"/>
            </a:avLst>
          </a:prstGeom>
          <a:solidFill>
            <a:srgbClr val="ff00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4419720"/>
            <a:ext cx="4267080" cy="547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343400" y="4495680"/>
            <a:ext cx="457200" cy="401760"/>
          </a:xfrm>
          <a:prstGeom prst="leftArrow">
            <a:avLst>
              <a:gd name="adj1" fmla="val 50000"/>
              <a:gd name="adj2" fmla="val 28450"/>
            </a:avLst>
          </a:prstGeom>
          <a:solidFill>
            <a:srgbClr val="ff00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914400"/>
            <a:ext cx="4267080" cy="6094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343400" y="1038240"/>
            <a:ext cx="457200" cy="401760"/>
          </a:xfrm>
          <a:prstGeom prst="leftArrow">
            <a:avLst>
              <a:gd name="adj1" fmla="val 50000"/>
              <a:gd name="adj2" fmla="val 28450"/>
            </a:avLst>
          </a:prstGeom>
          <a:solidFill>
            <a:srgbClr val="ff00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84120" y="1004760"/>
            <a:ext cx="3502080" cy="3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أفضل أن نقول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4952880"/>
            <a:ext cx="4267080" cy="547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43400" y="5029200"/>
            <a:ext cx="457200" cy="401760"/>
          </a:xfrm>
          <a:prstGeom prst="leftArrow">
            <a:avLst>
              <a:gd name="adj1" fmla="val 50000"/>
              <a:gd name="adj2" fmla="val 28450"/>
            </a:avLst>
          </a:prstGeom>
          <a:solidFill>
            <a:srgbClr val="ff00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7800" y="5105520"/>
            <a:ext cx="35784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أحتاج إلى حركة ونشاط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0" y="5485680"/>
            <a:ext cx="4267080" cy="685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343400" y="5618160"/>
            <a:ext cx="457200" cy="401760"/>
          </a:xfrm>
          <a:prstGeom prst="leftArrow">
            <a:avLst>
              <a:gd name="adj1" fmla="val 50000"/>
              <a:gd name="adj2" fmla="val 28450"/>
            </a:avLst>
          </a:prstGeom>
          <a:solidFill>
            <a:srgbClr val="ff00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2971800" y="166680"/>
            <a:ext cx="3276720" cy="51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قاموس الايجابي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0" y="6171480"/>
            <a:ext cx="4267080" cy="685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80880" y="5653080"/>
            <a:ext cx="3502080" cy="3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يجب أن أتقوى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0880" y="6338880"/>
            <a:ext cx="3502080" cy="3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أنا شجاع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337" name=""/>
          <p:cNvSpPr/>
          <p:nvPr/>
        </p:nvSpPr>
        <p:spPr>
          <a:xfrm>
            <a:off x="4343400" y="6303960"/>
            <a:ext cx="457200" cy="401760"/>
          </a:xfrm>
          <a:prstGeom prst="leftArrow">
            <a:avLst>
              <a:gd name="adj1" fmla="val 50000"/>
              <a:gd name="adj2" fmla="val 28450"/>
            </a:avLst>
          </a:prstGeom>
          <a:solidFill>
            <a:srgbClr val="ff00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876920" y="1523880"/>
            <a:ext cx="4267080" cy="6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876920" y="2133720"/>
            <a:ext cx="4267080" cy="547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5261040" y="2224080"/>
            <a:ext cx="3502080" cy="3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لا تغضب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2666880"/>
            <a:ext cx="4267080" cy="547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876920" y="3200400"/>
            <a:ext cx="4267080" cy="6094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809880"/>
            <a:ext cx="4267080" cy="6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876920" y="4419720"/>
            <a:ext cx="4267080" cy="547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76920" y="914400"/>
            <a:ext cx="4267080" cy="6094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5261040" y="1066680"/>
            <a:ext cx="3273480" cy="3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بدلا من القول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sp>
        <p:nvSpPr>
          <p:cNvPr id="347" name=""/>
          <p:cNvSpPr/>
          <p:nvPr/>
        </p:nvSpPr>
        <p:spPr>
          <a:xfrm>
            <a:off x="4876920" y="4952880"/>
            <a:ext cx="4267080" cy="547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5184720" y="5105520"/>
            <a:ext cx="35784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أشعر بكسل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4876920" y="5485680"/>
            <a:ext cx="4267080" cy="685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4876920" y="6171480"/>
            <a:ext cx="4267080" cy="685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5257800" y="5653080"/>
            <a:ext cx="3502080" cy="3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أشعر بضعف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5257800" y="6338880"/>
            <a:ext cx="3502080" cy="3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لا أخاف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5105520" y="2743200"/>
            <a:ext cx="38862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هذا اليوم شاق بالعمل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5257800" y="3290760"/>
            <a:ext cx="3502080" cy="3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لا أستطيع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257800" y="3900600"/>
            <a:ext cx="3502080" cy="36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أظن أننى سأنجح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5257800" y="4510080"/>
            <a:ext cx="3502080" cy="3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لا أعتقد أنه يتحقق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80880" y="2757600"/>
            <a:ext cx="3502080" cy="36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هذا اليوم مفعم بالعمل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04920" y="4510080"/>
            <a:ext cx="3502080" cy="3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آمل أن يتحقق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07800" y="3886200"/>
            <a:ext cx="3502080" cy="3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إن شاء الله سأنجح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07800" y="3290760"/>
            <a:ext cx="3502080" cy="3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سوف أحاول وأسعى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952880" y="1614600"/>
            <a:ext cx="4114800" cy="36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هذا عمل صعب أو هذه المهمة صعبة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3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1905120" y="76320"/>
            <a:ext cx="5333760" cy="175248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2286000" y="457200"/>
            <a:ext cx="4465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خمسة أسرار عملية للتفوق والنجاح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365" name=""/>
          <p:cNvSpPr/>
          <p:nvPr/>
        </p:nvSpPr>
        <p:spPr>
          <a:xfrm>
            <a:off x="7358040" y="1905120"/>
            <a:ext cx="1828800" cy="14475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7467480" y="2098800"/>
            <a:ext cx="1597320" cy="10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عتمد على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أكثر من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حاسة فى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حفظ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/>
          <p:nvPr/>
        </p:nvSpPr>
        <p:spPr>
          <a:xfrm>
            <a:off x="5529240" y="1905120"/>
            <a:ext cx="1828800" cy="14475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5641920" y="2098800"/>
            <a:ext cx="1596960" cy="10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بذل الجهد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الملازم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الذاتي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369" name=""/>
          <p:cNvSpPr/>
          <p:nvPr/>
        </p:nvSpPr>
        <p:spPr>
          <a:xfrm>
            <a:off x="7315200" y="3352680"/>
            <a:ext cx="1828800" cy="350532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505320"/>
              <a:gd name="textAreaBottom" fmla="*/ 3416040 h 3505320"/>
            </a:gdLst>
            <a:ahLst/>
            <a:rect l="textAreaLeft" t="textAreaTop" r="textAreaRight" b="textAreaBottom"/>
            <a:pathLst>
              <a:path w="21600" h="41398">
                <a:moveTo>
                  <a:pt x="3600" y="0"/>
                </a:moveTo>
                <a:arcTo wR="3600" hR="3600" stAng="16200000" swAng="-5400000"/>
                <a:lnTo>
                  <a:pt x="0" y="37798"/>
                </a:lnTo>
                <a:arcTo wR="3600" hR="3600" stAng="10800000" swAng="-5400000"/>
                <a:lnTo>
                  <a:pt x="18000" y="413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352680"/>
            <a:ext cx="1828800" cy="350532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505320"/>
              <a:gd name="textAreaBottom" fmla="*/ 3416040 h 3505320"/>
            </a:gdLst>
            <a:ahLst/>
            <a:rect l="textAreaLeft" t="textAreaTop" r="textAreaRight" b="textAreaBottom"/>
            <a:pathLst>
              <a:path w="21600" h="41398">
                <a:moveTo>
                  <a:pt x="3600" y="0"/>
                </a:moveTo>
                <a:arcTo wR="3600" hR="3600" stAng="16200000" swAng="-5400000"/>
                <a:lnTo>
                  <a:pt x="0" y="37798"/>
                </a:lnTo>
                <a:arcTo wR="3600" hR="3600" stAng="10800000" swAng="-5400000"/>
                <a:lnTo>
                  <a:pt x="18000" y="413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828800" y="1905120"/>
            <a:ext cx="1828800" cy="14475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981080" y="2098800"/>
            <a:ext cx="1597320" cy="10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قل الحق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لو على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نفسك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373" name=""/>
          <p:cNvSpPr/>
          <p:nvPr/>
        </p:nvSpPr>
        <p:spPr>
          <a:xfrm>
            <a:off x="3646440" y="1905120"/>
            <a:ext cx="1916280" cy="14475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3733920" y="2098800"/>
            <a:ext cx="1673280" cy="10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نظر إلى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جانب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ايجابى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1905120"/>
            <a:ext cx="1828800" cy="14475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79200" y="2098800"/>
            <a:ext cx="1597320" cy="10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شجاع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القناع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الحكم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377" name=""/>
          <p:cNvSpPr/>
          <p:nvPr/>
        </p:nvSpPr>
        <p:spPr>
          <a:xfrm>
            <a:off x="3657600" y="3352680"/>
            <a:ext cx="1828800" cy="350532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505320"/>
              <a:gd name="textAreaBottom" fmla="*/ 3416040 h 3505320"/>
            </a:gdLst>
            <a:ahLst/>
            <a:rect l="textAreaLeft" t="textAreaTop" r="textAreaRight" b="textAreaBottom"/>
            <a:pathLst>
              <a:path w="21600" h="41398">
                <a:moveTo>
                  <a:pt x="3600" y="0"/>
                </a:moveTo>
                <a:arcTo wR="3600" hR="3600" stAng="16200000" swAng="-5400000"/>
                <a:lnTo>
                  <a:pt x="0" y="37798"/>
                </a:lnTo>
                <a:arcTo wR="3600" hR="3600" stAng="10800000" swAng="-5400000"/>
                <a:lnTo>
                  <a:pt x="18000" y="413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733920" y="3505320"/>
            <a:ext cx="159696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مر عيسى وحواريوه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على جثة كلب فقالوا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  </a:t>
            </a:r>
            <a:r>
              <a:rPr b="0" lang="hi-IN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ما أنتن جيفة هذا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الكلب فقال عيسى</a:t>
            </a:r>
            <a:r>
              <a: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: 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أنظروا إلى أسنانه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ما أشد بياضها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79" name=""/>
          <p:cNvSpPr/>
          <p:nvPr/>
        </p:nvSpPr>
        <p:spPr>
          <a:xfrm>
            <a:off x="1828800" y="3352680"/>
            <a:ext cx="1828800" cy="350532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505320"/>
              <a:gd name="textAreaBottom" fmla="*/ 3416040 h 3505320"/>
            </a:gdLst>
            <a:ahLst/>
            <a:rect l="textAreaLeft" t="textAreaTop" r="textAreaRight" b="textAreaBottom"/>
            <a:pathLst>
              <a:path w="21600" h="41398">
                <a:moveTo>
                  <a:pt x="3600" y="0"/>
                </a:moveTo>
                <a:arcTo wR="3600" hR="3600" stAng="16200000" swAng="-5400000"/>
                <a:lnTo>
                  <a:pt x="0" y="37798"/>
                </a:lnTo>
                <a:arcTo wR="3600" hR="3600" stAng="10800000" swAng="-5400000"/>
                <a:lnTo>
                  <a:pt x="18000" y="413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1905120" y="3886200"/>
            <a:ext cx="1596960" cy="24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يقول أحد الأدباء :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إن أنت قلتها مت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وإن سكت مت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قلها إذن ومت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3352680"/>
            <a:ext cx="1828800" cy="350532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505320"/>
              <a:gd name="textAreaBottom" fmla="*/ 3416040 h 3505320"/>
            </a:gdLst>
            <a:ahLst/>
            <a:rect l="textAreaLeft" t="textAreaTop" r="textAreaRight" b="textAreaBottom"/>
            <a:pathLst>
              <a:path w="21600" h="41398">
                <a:moveTo>
                  <a:pt x="3600" y="0"/>
                </a:moveTo>
                <a:arcTo wR="3600" hR="3600" stAng="16200000" swAng="-5400000"/>
                <a:lnTo>
                  <a:pt x="0" y="37798"/>
                </a:lnTo>
                <a:arcTo wR="3600" hR="3600" stAng="10800000" swAng="-5400000"/>
                <a:lnTo>
                  <a:pt x="18000" y="413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79200" y="3581280"/>
            <a:ext cx="159732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إلهى اعطنى الشجاعة</a:t>
            </a:r>
            <a:endParaRPr b="0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فى القدرة على تغيير</a:t>
            </a:r>
            <a:endParaRPr b="0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الأشياء التى أقدر</a:t>
            </a:r>
            <a:endParaRPr b="0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على تغييرها</a:t>
            </a:r>
            <a:endParaRPr b="0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والقناعة على تقبل</a:t>
            </a:r>
            <a:endParaRPr b="0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الأشياء التى لا</a:t>
            </a:r>
            <a:endParaRPr b="0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يمكننى تغييرها</a:t>
            </a:r>
            <a:endParaRPr b="0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والحكمة على معرفة</a:t>
            </a:r>
            <a:endParaRPr b="0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الفرق بين الاثنين</a:t>
            </a:r>
            <a:endParaRPr b="0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Arial Black"/>
              <a:ea typeface="Arial Blac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7391520" y="3657600"/>
            <a:ext cx="167616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قراءة 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10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%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تسمع 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20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 %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ترى 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30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 %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ترى وتسمع 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50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 %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مما تقوله 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80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 %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مما تقول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وتسمع 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90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 %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5638680" y="3657600"/>
            <a:ext cx="152424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اشتهر عبد الرحمن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بن أبى حاتم الرازى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صاحب الكتاب العظيم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( </a:t>
            </a:r>
            <a:r>
              <a:rPr b="0" lang="hi-I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الجرح والتعديل</a:t>
            </a: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 </a:t>
            </a: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) 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بملازمته لوالده وكثرة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الأخذ عنه وكان يقول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ربما كان يأكل وأقرأ عليه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ويمشى وأقرأ عليه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ويدخل البيت وأقرأ عليه 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 txBox="1"/>
          <p:nvPr/>
        </p:nvSpPr>
        <p:spPr>
          <a:xfrm>
            <a:off x="533520" y="228600"/>
            <a:ext cx="4727520" cy="354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الاتقا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لنجاح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2163600" y="4114800"/>
            <a:ext cx="2192400" cy="183528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 txBox="1"/>
          <p:nvPr/>
        </p:nvSpPr>
        <p:spPr>
          <a:xfrm>
            <a:off x="2370240" y="3195720"/>
            <a:ext cx="1820880" cy="69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جمال ماضى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2340000" y="5978520"/>
            <a:ext cx="1820880" cy="69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مع تحياتي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700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850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3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981080" y="76320"/>
            <a:ext cx="5334120" cy="175248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438280" y="457200"/>
            <a:ext cx="4465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قاوم الإهمال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6148440" y="1981080"/>
            <a:ext cx="2895480" cy="327672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276720"/>
              <a:gd name="textAreaBottom" fmla="*/ 3135600 h 3276720"/>
            </a:gdLst>
            <a:ahLst/>
            <a:rect l="textAreaLeft" t="textAreaTop" r="textAreaRight" b="textAreaBottom"/>
            <a:pathLst>
              <a:path w="21600" h="24444">
                <a:moveTo>
                  <a:pt x="3600" y="0"/>
                </a:moveTo>
                <a:arcTo wR="3600" hR="3600" stAng="16200000" swAng="-5400000"/>
                <a:lnTo>
                  <a:pt x="0" y="20844"/>
                </a:lnTo>
                <a:arcTo wR="3600" hR="3600" stAng="10800000" swAng="-5400000"/>
                <a:lnTo>
                  <a:pt x="18000" y="24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5334120"/>
            <a:ext cx="8534520" cy="714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5421240"/>
            <a:ext cx="8305920" cy="55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إن أى تساهل أو إهمال فى الأمور الصغيرة يصل إلى الأمور الكبيرة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3176640" y="1981080"/>
            <a:ext cx="2965320" cy="3276720"/>
          </a:xfrm>
          <a:custGeom>
            <a:avLst/>
            <a:gdLst>
              <a:gd name="textAreaLeft" fmla="*/ 144720 w 2965320"/>
              <a:gd name="textAreaRight" fmla="*/ 2820600 w 2965320"/>
              <a:gd name="textAreaTop" fmla="*/ 144720 h 3276720"/>
              <a:gd name="textAreaBottom" fmla="*/ 3132000 h 3276720"/>
            </a:gdLst>
            <a:ahLst/>
            <a:rect l="textAreaLeft" t="textAreaTop" r="textAreaRight" b="textAreaBottom"/>
            <a:pathLst>
              <a:path w="21600" h="23868">
                <a:moveTo>
                  <a:pt x="3600" y="0"/>
                </a:moveTo>
                <a:arcTo wR="3600" hR="3600" stAng="16200000" swAng="-5400000"/>
                <a:lnTo>
                  <a:pt x="0" y="20268"/>
                </a:lnTo>
                <a:arcTo wR="3600" hR="3600" stAng="10800000" swAng="-5400000"/>
                <a:lnTo>
                  <a:pt x="18000" y="238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313080" y="2133720"/>
            <a:ext cx="2683080" cy="28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كافىء أو عاقب نفسك :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احرم نفسك من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الراحة أو العمل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الذى تحبه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248520" y="2133720"/>
            <a:ext cx="2619360" cy="28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اسأل نفسك :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لماذا أقوم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بهذا العمل ؟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ماذا يحدث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لو تركت العمل ؟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ماذا سيحدث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لو تأخر العمل ؟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1981080"/>
            <a:ext cx="2949480" cy="3276720"/>
          </a:xfrm>
          <a:custGeom>
            <a:avLst/>
            <a:gdLst>
              <a:gd name="textAreaLeft" fmla="*/ 144000 w 2949480"/>
              <a:gd name="textAreaRight" fmla="*/ 2805480 w 2949480"/>
              <a:gd name="textAreaTop" fmla="*/ 144000 h 3276720"/>
              <a:gd name="textAreaBottom" fmla="*/ 3132720 h 3276720"/>
            </a:gdLst>
            <a:ahLst/>
            <a:rect l="textAreaLeft" t="textAreaTop" r="textAreaRight" b="textAreaBottom"/>
            <a:pathLst>
              <a:path w="21600" h="23996">
                <a:moveTo>
                  <a:pt x="3600" y="0"/>
                </a:moveTo>
                <a:arcTo wR="3600" hR="3600" stAng="16200000" swAng="-5400000"/>
                <a:lnTo>
                  <a:pt x="0" y="20396"/>
                </a:lnTo>
                <a:arcTo wR="3600" hR="3600" stAng="10800000" swAng="-5400000"/>
                <a:lnTo>
                  <a:pt x="18000" y="239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79440" y="2162160"/>
            <a:ext cx="2668680" cy="28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حاسب نفسك : تمم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أعمالك حتى تستمتع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بوقت مرحك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6143760"/>
            <a:ext cx="8534520" cy="714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6230880"/>
            <a:ext cx="8305920" cy="55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قصة حديث سعد بن معاذ وقول النبى عند قبره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3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981080" y="76320"/>
            <a:ext cx="5334120" cy="175248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438280" y="457200"/>
            <a:ext cx="4465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سيطر على نفسك 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61" name=""/>
          <p:cNvSpPr/>
          <p:nvPr/>
        </p:nvSpPr>
        <p:spPr>
          <a:xfrm>
            <a:off x="6148440" y="1981080"/>
            <a:ext cx="2895480" cy="2743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23000" y="4876920"/>
            <a:ext cx="2192400" cy="114300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0" y="4986360"/>
            <a:ext cx="1828800" cy="88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طرق السيطرة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ثلاثة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</p:txBody>
      </p:sp>
      <p:sp>
        <p:nvSpPr>
          <p:cNvPr id="64" name=""/>
          <p:cNvSpPr/>
          <p:nvPr/>
        </p:nvSpPr>
        <p:spPr>
          <a:xfrm>
            <a:off x="3176640" y="1981080"/>
            <a:ext cx="2965320" cy="2743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313080" y="2133720"/>
            <a:ext cx="2683080" cy="24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الفرد بذاته الايجابية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ضعيفة ولكن لا بد من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ايجابية جماعية وإلا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استسلم الفرد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الايجابى لسلبية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المجموع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248520" y="2133720"/>
            <a:ext cx="2619360" cy="24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الانسان استطاع أن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يسيطر على الآليات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والكون والفضاء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والأرض ولكنه فشل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فى السيطرة على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نفسه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1981080"/>
            <a:ext cx="2949480" cy="2743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80880" y="2171880"/>
            <a:ext cx="2668680" cy="24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الانسان العاقل يستطيع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أن يحول الانهزام إلى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نصر والسلبية إلى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ايجابية والانكسار إلى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ارتفاع بأن يجيد فنون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التعامل مع السلبيات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6143760"/>
            <a:ext cx="8382240" cy="714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6230880"/>
            <a:ext cx="8156520" cy="55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ومقياس نجاح ذلك على أمر واحد : وضوح الهدف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</p:txBody>
      </p:sp>
      <p:sp>
        <p:nvSpPr>
          <p:cNvPr id="71" name=""/>
          <p:cNvSpPr/>
          <p:nvPr/>
        </p:nvSpPr>
        <p:spPr>
          <a:xfrm>
            <a:off x="4419720" y="4876920"/>
            <a:ext cx="2133360" cy="1066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4876920"/>
            <a:ext cx="2133720" cy="1066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2280" y="4876920"/>
            <a:ext cx="2133720" cy="1066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48320" y="5105520"/>
            <a:ext cx="16002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معرفة الانسان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وفن معاملته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514600" y="5105520"/>
            <a:ext cx="16002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الأعمال 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وأنواعها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80880" y="5105520"/>
            <a:ext cx="16002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الحاجات الأساسية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للفرد والمجتمع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3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981080" y="76320"/>
            <a:ext cx="5334120" cy="175248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438280" y="457200"/>
            <a:ext cx="4465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حول الفشل إلى نجاح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3124080"/>
            <a:ext cx="4319640" cy="2743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3124080"/>
            <a:ext cx="4495680" cy="2743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71680" y="3276720"/>
            <a:ext cx="3924000" cy="24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كلا الفشل لم أوفق لحد الآن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كلا الفشل يعنى تعلمت شيئا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كلا اخترت طريقا آخر لمرادى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كلا لدى الحجة للبداية من جديد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يعنى على المحاولة والسعى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924440" y="3276720"/>
            <a:ext cx="3762360" cy="24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الفشل أنت انسان فاشل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الفشل أنك لم تفعل شيئا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الفشل أنك لن تصل لمرادك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الفشل أنك أتلفت حياتك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يعنى عليك الرضوخ للواقع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5943600"/>
            <a:ext cx="8382240" cy="914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5943600"/>
            <a:ext cx="8156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أديسون : 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1800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 محاولة فاشلة قبل أن يخترع الكهرباء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النجاح والتفوق 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1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% الهام + 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99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% جهد واجتهاد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</p:txBody>
      </p:sp>
      <p:sp>
        <p:nvSpPr>
          <p:cNvPr id="86" name=""/>
          <p:cNvSpPr/>
          <p:nvPr/>
        </p:nvSpPr>
        <p:spPr>
          <a:xfrm>
            <a:off x="5943600" y="2057400"/>
            <a:ext cx="2133720" cy="1066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71600" y="2057400"/>
            <a:ext cx="2133720" cy="1066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172200" y="2286000"/>
            <a:ext cx="16002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القول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600200" y="2286000"/>
            <a:ext cx="16002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المعنى الحقيقى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3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981080" y="0"/>
            <a:ext cx="5334120" cy="175248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438280" y="380880"/>
            <a:ext cx="44658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اقض على التوتر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1752480"/>
            <a:ext cx="8458200" cy="2971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846000" y="2114640"/>
            <a:ext cx="7383600" cy="11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  </a:t>
            </a: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الكفاية من النوم 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8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 ساعات والحصول على الراحة 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10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 دقائق فترة الظهيرة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البدء بالحضروات والفاكهة بكميات كبيرة وحفض كميات اللحوم والدسم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الحرص على التمرينات الرياضية يفرز الجسم الايدرفين المهدىء للمزاج 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770040" y="3352680"/>
            <a:ext cx="73832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نفس عميق وطويل وإخراجه ببطء يقلل من ضربات القلب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قضاء وقت مع أصدقاء مرحين يتمتعون بالايجابية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البحث عن الضحك لتأثيره الايجابى فى دفع الاكتئاب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4648320"/>
            <a:ext cx="8458200" cy="22096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914400" y="4775040"/>
            <a:ext cx="73836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في دراسة أمريكي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أوجد التسامح فى داخلك واعط للآخرين أعذارا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فرغ مشاعر الغضب والخوف على ورق ثم مزقه وارمه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66680" y="5715000"/>
            <a:ext cx="738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 Black"/>
              </a:rPr>
              <a:t>تتعلم الصمت أثناء الغضب فلا داعى للكلام وأنت متوتر </a:t>
            </a:r>
            <a:endParaRPr b="0" lang="en-US" sz="24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 Black"/>
              </a:rPr>
              <a:t>لا تحكم على الآخرين فلست زعيم الكون</a:t>
            </a:r>
            <a:endParaRPr b="0" lang="en-US" sz="24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 Black"/>
              </a:rPr>
              <a:t>كن عطوفا على نفسك فلا تجلدها ولكن لا تضيع الفرص</a:t>
            </a:r>
            <a:endParaRPr b="0" lang="en-US" sz="24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 Black"/>
              </a:rPr>
              <a:t>استعن بالأصدقاء والأقارب والاخوان فى حل المشكلة</a:t>
            </a:r>
            <a:endParaRPr b="0" lang="en-US" sz="24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3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981080" y="2057400"/>
            <a:ext cx="5334120" cy="175248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438280" y="2438280"/>
            <a:ext cx="44658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خطوات التغيير العشرة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38880" y="380880"/>
            <a:ext cx="1828800" cy="144792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315200" y="574560"/>
            <a:ext cx="1596960" cy="10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خطوات تغيير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حالة النفسي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أربع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04" name=""/>
          <p:cNvSpPr/>
          <p:nvPr/>
        </p:nvSpPr>
        <p:spPr>
          <a:xfrm>
            <a:off x="5599080" y="76320"/>
            <a:ext cx="1541520" cy="1904760"/>
          </a:xfrm>
          <a:custGeom>
            <a:avLst/>
            <a:gdLst>
              <a:gd name="textAreaLeft" fmla="*/ 75240 w 1541520"/>
              <a:gd name="textAreaRight" fmla="*/ 1466280 w 1541520"/>
              <a:gd name="textAreaTop" fmla="*/ 75240 h 1904760"/>
              <a:gd name="textAreaBottom" fmla="*/ 1829520 h 1904760"/>
            </a:gdLst>
            <a:ahLst/>
            <a:rect l="textAreaLeft" t="textAreaTop" r="textAreaRight" b="textAreaBottom"/>
            <a:pathLst>
              <a:path w="21600" h="26689">
                <a:moveTo>
                  <a:pt x="3600" y="0"/>
                </a:moveTo>
                <a:arcTo wR="3600" hR="3600" stAng="16200000" swAng="-5400000"/>
                <a:lnTo>
                  <a:pt x="0" y="23089"/>
                </a:lnTo>
                <a:arcTo wR="3600" hR="3600" stAng="10800000" swAng="-5400000"/>
                <a:lnTo>
                  <a:pt x="18000" y="266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791320" y="270000"/>
            <a:ext cx="1193760" cy="13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اعتراف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بالخطأ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لا تتجاهل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ألمك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06" name=""/>
          <p:cNvSpPr/>
          <p:nvPr/>
        </p:nvSpPr>
        <p:spPr>
          <a:xfrm>
            <a:off x="3843360" y="76320"/>
            <a:ext cx="1566720" cy="1904760"/>
          </a:xfrm>
          <a:custGeom>
            <a:avLst/>
            <a:gdLst>
              <a:gd name="textAreaLeft" fmla="*/ 76320 w 1566720"/>
              <a:gd name="textAreaRight" fmla="*/ 1490400 w 1566720"/>
              <a:gd name="textAreaTop" fmla="*/ 76320 h 1904760"/>
              <a:gd name="textAreaBottom" fmla="*/ 1828440 h 1904760"/>
            </a:gdLst>
            <a:ahLst/>
            <a:rect l="textAreaLeft" t="textAreaTop" r="textAreaRight" b="textAreaBottom"/>
            <a:pathLst>
              <a:path w="21600" h="26259">
                <a:moveTo>
                  <a:pt x="3600" y="0"/>
                </a:moveTo>
                <a:arcTo wR="3600" hR="3600" stAng="16200000" swAng="-5400000"/>
                <a:lnTo>
                  <a:pt x="0" y="22659"/>
                </a:lnTo>
                <a:arcTo wR="3600" hR="3600" stAng="10800000" swAng="-5400000"/>
                <a:lnTo>
                  <a:pt x="18000" y="262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886200" y="270000"/>
            <a:ext cx="1368360" cy="13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أنت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مسئول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عما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تحس به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08" name=""/>
          <p:cNvSpPr/>
          <p:nvPr/>
        </p:nvSpPr>
        <p:spPr>
          <a:xfrm>
            <a:off x="2057400" y="76320"/>
            <a:ext cx="1600200" cy="1904760"/>
          </a:xfrm>
          <a:custGeom>
            <a:avLst/>
            <a:gdLst>
              <a:gd name="textAreaLeft" fmla="*/ 78120 w 1600200"/>
              <a:gd name="textAreaRight" fmla="*/ 1522080 w 1600200"/>
              <a:gd name="textAreaTop" fmla="*/ 78120 h 1904760"/>
              <a:gd name="textAreaBottom" fmla="*/ 1826640 h 1904760"/>
            </a:gdLst>
            <a:ahLst/>
            <a:rect l="textAreaLeft" t="textAreaTop" r="textAreaRight" b="textAreaBottom"/>
            <a:pathLst>
              <a:path w="21600" h="25710">
                <a:moveTo>
                  <a:pt x="3600" y="0"/>
                </a:moveTo>
                <a:arcTo wR="3600" hR="3600" stAng="16200000" swAng="-5400000"/>
                <a:lnTo>
                  <a:pt x="0" y="22110"/>
                </a:lnTo>
                <a:arcTo wR="3600" hR="3600" stAng="10800000" swAng="-5400000"/>
                <a:lnTo>
                  <a:pt x="18000" y="257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182680" y="270000"/>
            <a:ext cx="1398600" cy="13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حلل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جمع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تحرر من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أوهام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10" name=""/>
          <p:cNvSpPr/>
          <p:nvPr/>
        </p:nvSpPr>
        <p:spPr>
          <a:xfrm>
            <a:off x="295200" y="76320"/>
            <a:ext cx="1533600" cy="1904760"/>
          </a:xfrm>
          <a:custGeom>
            <a:avLst/>
            <a:gdLst>
              <a:gd name="textAreaLeft" fmla="*/ 74880 w 1533600"/>
              <a:gd name="textAreaRight" fmla="*/ 1458720 w 1533600"/>
              <a:gd name="textAreaTop" fmla="*/ 74880 h 1904760"/>
              <a:gd name="textAreaBottom" fmla="*/ 1829880 h 1904760"/>
            </a:gdLst>
            <a:ahLst/>
            <a:rect l="textAreaLeft" t="textAreaTop" r="textAreaRight" b="textAreaBottom"/>
            <a:pathLst>
              <a:path w="21600" h="26826">
                <a:moveTo>
                  <a:pt x="3600" y="0"/>
                </a:moveTo>
                <a:arcTo wR="3600" hR="3600" stAng="16200000" swAng="-5400000"/>
                <a:lnTo>
                  <a:pt x="0" y="23226"/>
                </a:lnTo>
                <a:arcTo wR="3600" hR="3600" stAng="10800000" swAng="-5400000"/>
                <a:lnTo>
                  <a:pt x="18000" y="268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12920" y="326880"/>
            <a:ext cx="1339560" cy="134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لا تضيع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قتك فى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لوم الآخرين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أنهم السبب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12" name=""/>
          <p:cNvSpPr/>
          <p:nvPr/>
        </p:nvSpPr>
        <p:spPr>
          <a:xfrm>
            <a:off x="7315200" y="3886200"/>
            <a:ext cx="1828800" cy="14479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467480" y="4079880"/>
            <a:ext cx="1597320" cy="10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أنت من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تستطيع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تغيير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14" name=""/>
          <p:cNvSpPr/>
          <p:nvPr/>
        </p:nvSpPr>
        <p:spPr>
          <a:xfrm>
            <a:off x="5486400" y="3886200"/>
            <a:ext cx="1828800" cy="14479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562720" y="4079880"/>
            <a:ext cx="1596960" cy="10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أنت قادر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على صنع</a:t>
            </a: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تغيير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16" name=""/>
          <p:cNvSpPr/>
          <p:nvPr/>
        </p:nvSpPr>
        <p:spPr>
          <a:xfrm>
            <a:off x="3657600" y="3886200"/>
            <a:ext cx="1828800" cy="14479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733920" y="4079880"/>
            <a:ext cx="1596960" cy="10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أنت محاسب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على كل قول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أو فعل أو حرك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18" name=""/>
          <p:cNvSpPr/>
          <p:nvPr/>
        </p:nvSpPr>
        <p:spPr>
          <a:xfrm>
            <a:off x="7315200" y="5334120"/>
            <a:ext cx="1828800" cy="14475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7391520" y="5527800"/>
            <a:ext cx="1596960" cy="10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لا تقيد نفسك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بطريقة التغيير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فهى ستأتى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20" name=""/>
          <p:cNvSpPr/>
          <p:nvPr/>
        </p:nvSpPr>
        <p:spPr>
          <a:xfrm>
            <a:off x="5486400" y="5334120"/>
            <a:ext cx="1828800" cy="14475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562720" y="5527800"/>
            <a:ext cx="1596960" cy="10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جتهد بالمتاح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لا تنتظر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مثالى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22" name=""/>
          <p:cNvSpPr/>
          <p:nvPr/>
        </p:nvSpPr>
        <p:spPr>
          <a:xfrm>
            <a:off x="1828800" y="3886200"/>
            <a:ext cx="1828800" cy="14479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905120" y="4079880"/>
            <a:ext cx="1596960" cy="10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أن تؤمن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بالتغيير</a:t>
            </a: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تلتزم به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24" name=""/>
          <p:cNvSpPr/>
          <p:nvPr/>
        </p:nvSpPr>
        <p:spPr>
          <a:xfrm>
            <a:off x="3657600" y="5334120"/>
            <a:ext cx="1828800" cy="14475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733920" y="5527800"/>
            <a:ext cx="1596960" cy="10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متلك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وعى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الكياس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26" name=""/>
          <p:cNvSpPr/>
          <p:nvPr/>
        </p:nvSpPr>
        <p:spPr>
          <a:xfrm>
            <a:off x="1828800" y="5334120"/>
            <a:ext cx="1828800" cy="14475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905120" y="5527800"/>
            <a:ext cx="1596960" cy="10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حلم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تخيل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مارس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886200"/>
            <a:ext cx="1828800" cy="14479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6320" y="4079880"/>
            <a:ext cx="1596960" cy="10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ذاتي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أو المسئولي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فردي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5334120"/>
            <a:ext cx="1828800" cy="14475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76320" y="5527800"/>
            <a:ext cx="1596960" cy="10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تغير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أنت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أولا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3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905120" y="76320"/>
            <a:ext cx="5333760" cy="175248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362320" y="457200"/>
            <a:ext cx="44654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اجعل الحظوظ حظوظا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135" name=""/>
          <p:cNvSpPr/>
          <p:nvPr/>
        </p:nvSpPr>
        <p:spPr>
          <a:xfrm>
            <a:off x="3733920" y="3352680"/>
            <a:ext cx="1828800" cy="144792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09880" y="3546360"/>
            <a:ext cx="1597320" cy="10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حظوظ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37" name=""/>
          <p:cNvSpPr/>
          <p:nvPr/>
        </p:nvSpPr>
        <p:spPr>
          <a:xfrm>
            <a:off x="152280" y="0"/>
            <a:ext cx="1541520" cy="1905120"/>
          </a:xfrm>
          <a:custGeom>
            <a:avLst/>
            <a:gdLst>
              <a:gd name="textAreaLeft" fmla="*/ 75240 w 1541520"/>
              <a:gd name="textAreaRight" fmla="*/ 1466280 w 1541520"/>
              <a:gd name="textAreaTop" fmla="*/ 75240 h 1905120"/>
              <a:gd name="textAreaBottom" fmla="*/ 1829880 h 1905120"/>
            </a:gdLst>
            <a:ahLst/>
            <a:rect l="textAreaLeft" t="textAreaTop" r="textAreaRight" b="textAreaBottom"/>
            <a:pathLst>
              <a:path w="21600" h="26694">
                <a:moveTo>
                  <a:pt x="3600" y="0"/>
                </a:moveTo>
                <a:arcTo wR="3600" hR="3600" stAng="16200000" swAng="-5400000"/>
                <a:lnTo>
                  <a:pt x="0" y="23094"/>
                </a:lnTo>
                <a:arcTo wR="3600" hR="3600" stAng="10800000" swAng="-5400000"/>
                <a:lnTo>
                  <a:pt x="18000" y="266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44520" y="193680"/>
            <a:ext cx="1193760" cy="13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حظوظ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خارجي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39" name=""/>
          <p:cNvSpPr/>
          <p:nvPr/>
        </p:nvSpPr>
        <p:spPr>
          <a:xfrm>
            <a:off x="7424640" y="0"/>
            <a:ext cx="1567080" cy="1905120"/>
          </a:xfrm>
          <a:custGeom>
            <a:avLst/>
            <a:gdLst>
              <a:gd name="textAreaLeft" fmla="*/ 76320 w 1567080"/>
              <a:gd name="textAreaRight" fmla="*/ 1490760 w 1567080"/>
              <a:gd name="textAreaTop" fmla="*/ 76320 h 1905120"/>
              <a:gd name="textAreaBottom" fmla="*/ 1828800 h 1905120"/>
            </a:gdLst>
            <a:ahLst/>
            <a:rect l="textAreaLeft" t="textAreaTop" r="textAreaRight" b="textAreaBottom"/>
            <a:pathLst>
              <a:path w="21600" h="26258">
                <a:moveTo>
                  <a:pt x="3600" y="0"/>
                </a:moveTo>
                <a:arcTo wR="3600" hR="3600" stAng="16200000" swAng="-5400000"/>
                <a:lnTo>
                  <a:pt x="0" y="22658"/>
                </a:lnTo>
                <a:arcTo wR="3600" hR="3600" stAng="10800000" swAng="-5400000"/>
                <a:lnTo>
                  <a:pt x="18000" y="262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7467480" y="193680"/>
            <a:ext cx="1368720" cy="13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حظوظ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داخلي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41" name=""/>
          <p:cNvSpPr/>
          <p:nvPr/>
        </p:nvSpPr>
        <p:spPr>
          <a:xfrm>
            <a:off x="7358040" y="1905120"/>
            <a:ext cx="1828800" cy="14475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7510320" y="2098800"/>
            <a:ext cx="1597320" cy="10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جسم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وجه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جميل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43" name=""/>
          <p:cNvSpPr/>
          <p:nvPr/>
        </p:nvSpPr>
        <p:spPr>
          <a:xfrm>
            <a:off x="5529240" y="1905120"/>
            <a:ext cx="1828800" cy="14475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605560" y="2098800"/>
            <a:ext cx="1596960" cy="10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جيوي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تفاءل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حرك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3352680"/>
            <a:ext cx="1828800" cy="14479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90720" y="3546360"/>
            <a:ext cx="1596960" cy="10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درج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علمي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شهاد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47" name=""/>
          <p:cNvSpPr/>
          <p:nvPr/>
        </p:nvSpPr>
        <p:spPr>
          <a:xfrm>
            <a:off x="7315200" y="4800600"/>
            <a:ext cx="1828800" cy="14479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7391520" y="4994280"/>
            <a:ext cx="1596960" cy="10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تفوق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علمى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تميز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49" name=""/>
          <p:cNvSpPr/>
          <p:nvPr/>
        </p:nvSpPr>
        <p:spPr>
          <a:xfrm>
            <a:off x="5486400" y="4800600"/>
            <a:ext cx="1828800" cy="14479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562720" y="4994280"/>
            <a:ext cx="1596960" cy="10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حدس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الذكاء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الفطن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1905120"/>
            <a:ext cx="1828800" cy="14475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981080" y="2098800"/>
            <a:ext cx="1597320" cy="10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نجاح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عفوى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فجائى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53" name=""/>
          <p:cNvSpPr/>
          <p:nvPr/>
        </p:nvSpPr>
        <p:spPr>
          <a:xfrm>
            <a:off x="6400800" y="3352680"/>
            <a:ext cx="1828800" cy="14479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477120" y="3546360"/>
            <a:ext cx="1596960" cy="10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قو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روحي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يماني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4800600"/>
            <a:ext cx="1828800" cy="14479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905120" y="4994280"/>
            <a:ext cx="1596960" cy="10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سائل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مادي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متاح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1905120"/>
            <a:ext cx="1828800" cy="14475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76320" y="2098800"/>
            <a:ext cx="1596960" cy="10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علاقات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رأس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مال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4800600"/>
            <a:ext cx="1828800" cy="14479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76320" y="4994280"/>
            <a:ext cx="1596960" cy="10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محيط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ثقافى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علمى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61" name=""/>
          <p:cNvSpPr/>
          <p:nvPr/>
        </p:nvSpPr>
        <p:spPr>
          <a:xfrm>
            <a:off x="4419720" y="1828800"/>
            <a:ext cx="485640" cy="1509840"/>
          </a:xfrm>
          <a:prstGeom prst="upArrow">
            <a:avLst>
              <a:gd name="adj1" fmla="val 50000"/>
              <a:gd name="adj2" fmla="val 77724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419720" y="4800600"/>
            <a:ext cx="485640" cy="1371600"/>
          </a:xfrm>
          <a:prstGeom prst="downArrow">
            <a:avLst>
              <a:gd name="adj1" fmla="val 50000"/>
              <a:gd name="adj2" fmla="val 70608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6288120"/>
            <a:ext cx="8382240" cy="493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6324480"/>
            <a:ext cx="81565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الثقة بالنفس تعنى قبول المرء بحالته الحاضرة وتحسينها وتطويرها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3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905120" y="76320"/>
            <a:ext cx="5333760" cy="175248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286000" y="457200"/>
            <a:ext cx="4465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خمس طرق لإطالة العمر 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168" name=""/>
          <p:cNvSpPr/>
          <p:nvPr/>
        </p:nvSpPr>
        <p:spPr>
          <a:xfrm>
            <a:off x="7358040" y="1905120"/>
            <a:ext cx="1828800" cy="14475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510320" y="2098800"/>
            <a:ext cx="1597320" cy="10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إقلاع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عن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تدخين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70" name=""/>
          <p:cNvSpPr/>
          <p:nvPr/>
        </p:nvSpPr>
        <p:spPr>
          <a:xfrm>
            <a:off x="5529240" y="1905120"/>
            <a:ext cx="1828800" cy="14475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605560" y="2098800"/>
            <a:ext cx="1596960" cy="10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إقلاع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عن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كافيين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72" name=""/>
          <p:cNvSpPr/>
          <p:nvPr/>
        </p:nvSpPr>
        <p:spPr>
          <a:xfrm>
            <a:off x="7315200" y="3352680"/>
            <a:ext cx="1828800" cy="350532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505320"/>
              <a:gd name="textAreaBottom" fmla="*/ 3416040 h 3505320"/>
            </a:gdLst>
            <a:ahLst/>
            <a:rect l="textAreaLeft" t="textAreaTop" r="textAreaRight" b="textAreaBottom"/>
            <a:pathLst>
              <a:path w="21600" h="41398">
                <a:moveTo>
                  <a:pt x="3600" y="0"/>
                </a:moveTo>
                <a:arcTo wR="3600" hR="3600" stAng="16200000" swAng="-5400000"/>
                <a:lnTo>
                  <a:pt x="0" y="37798"/>
                </a:lnTo>
                <a:arcTo wR="3600" hR="3600" stAng="10800000" swAng="-5400000"/>
                <a:lnTo>
                  <a:pt x="18000" y="413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467480" y="3505320"/>
            <a:ext cx="1600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 Black"/>
              </a:rPr>
              <a:t>يزيد </a:t>
            </a:r>
            <a:endParaRPr b="0" lang="en-US" sz="24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 Black"/>
              </a:rPr>
              <a:t>30 </a:t>
            </a:r>
            <a:r>
              <a:rPr b="0" lang="hi-IN" sz="2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 Black"/>
              </a:rPr>
              <a:t>عاما</a:t>
            </a:r>
            <a:endParaRPr b="0" lang="en-US" sz="24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 Black"/>
              </a:rPr>
              <a:t>إلى العمر</a:t>
            </a:r>
            <a:endParaRPr b="0" lang="en-US" sz="24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 Black"/>
              <a:ea typeface="Arial Black"/>
            </a:endParaRPr>
          </a:p>
        </p:txBody>
      </p:sp>
      <p:sp>
        <p:nvSpPr>
          <p:cNvPr id="174" name=""/>
          <p:cNvSpPr/>
          <p:nvPr/>
        </p:nvSpPr>
        <p:spPr>
          <a:xfrm>
            <a:off x="5486400" y="3352680"/>
            <a:ext cx="1828800" cy="350532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505320"/>
              <a:gd name="textAreaBottom" fmla="*/ 3416040 h 3505320"/>
            </a:gdLst>
            <a:ahLst/>
            <a:rect l="textAreaLeft" t="textAreaTop" r="textAreaRight" b="textAreaBottom"/>
            <a:pathLst>
              <a:path w="21600" h="41398">
                <a:moveTo>
                  <a:pt x="3600" y="0"/>
                </a:moveTo>
                <a:arcTo wR="3600" hR="3600" stAng="16200000" swAng="-5400000"/>
                <a:lnTo>
                  <a:pt x="0" y="37798"/>
                </a:lnTo>
                <a:arcTo wR="3600" hR="3600" stAng="10800000" swAng="-5400000"/>
                <a:lnTo>
                  <a:pt x="18000" y="413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28800" y="1905120"/>
            <a:ext cx="1828800" cy="14475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981080" y="2098800"/>
            <a:ext cx="1597320" cy="10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ابتعاد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عن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سمن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77" name=""/>
          <p:cNvSpPr/>
          <p:nvPr/>
        </p:nvSpPr>
        <p:spPr>
          <a:xfrm>
            <a:off x="3646440" y="1905120"/>
            <a:ext cx="1916280" cy="14475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733920" y="2098800"/>
            <a:ext cx="1673280" cy="10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منع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أغذي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محفوظ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1905120"/>
            <a:ext cx="1828800" cy="14475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76320" y="2098800"/>
            <a:ext cx="1596960" cy="10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ممارس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تمرينات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رياضي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3352680"/>
            <a:ext cx="1828800" cy="350532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505320"/>
              <a:gd name="textAreaBottom" fmla="*/ 3416040 h 3505320"/>
            </a:gdLst>
            <a:ahLst/>
            <a:rect l="textAreaLeft" t="textAreaTop" r="textAreaRight" b="textAreaBottom"/>
            <a:pathLst>
              <a:path w="21600" h="41398">
                <a:moveTo>
                  <a:pt x="3600" y="0"/>
                </a:moveTo>
                <a:arcTo wR="3600" hR="3600" stAng="16200000" swAng="-5400000"/>
                <a:lnTo>
                  <a:pt x="0" y="37798"/>
                </a:lnTo>
                <a:arcTo wR="3600" hR="3600" stAng="10800000" swAng="-5400000"/>
                <a:lnTo>
                  <a:pt x="18000" y="413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733920" y="3581280"/>
            <a:ext cx="159696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المواد الحافظة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تؤثر سلبيا على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الجهاز الهضمى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الاستعاضة 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بالفاكهة الموسمية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1828800" y="3352680"/>
            <a:ext cx="1828800" cy="350532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505320"/>
              <a:gd name="textAreaBottom" fmla="*/ 3416040 h 3505320"/>
            </a:gdLst>
            <a:ahLst/>
            <a:rect l="textAreaLeft" t="textAreaTop" r="textAreaRight" b="textAreaBottom"/>
            <a:pathLst>
              <a:path w="21600" h="41398">
                <a:moveTo>
                  <a:pt x="3600" y="0"/>
                </a:moveTo>
                <a:arcTo wR="3600" hR="3600" stAng="16200000" swAng="-5400000"/>
                <a:lnTo>
                  <a:pt x="0" y="37798"/>
                </a:lnTo>
                <a:arcTo wR="3600" hR="3600" stAng="10800000" swAng="-5400000"/>
                <a:lnTo>
                  <a:pt x="18000" y="413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905120" y="3886200"/>
            <a:ext cx="1596960" cy="24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لحفظ القلب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وتجنب السكر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يجب الابتعاد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عن الدسم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3352680"/>
            <a:ext cx="1828800" cy="350532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505320"/>
              <a:gd name="textAreaBottom" fmla="*/ 3416040 h 3505320"/>
            </a:gdLst>
            <a:ahLst/>
            <a:rect l="textAreaLeft" t="textAreaTop" r="textAreaRight" b="textAreaBottom"/>
            <a:pathLst>
              <a:path w="21600" h="41398">
                <a:moveTo>
                  <a:pt x="3600" y="0"/>
                </a:moveTo>
                <a:arcTo wR="3600" hR="3600" stAng="16200000" swAng="-5400000"/>
                <a:lnTo>
                  <a:pt x="0" y="37798"/>
                </a:lnTo>
                <a:arcTo wR="3600" hR="3600" stAng="10800000" swAng="-5400000"/>
                <a:lnTo>
                  <a:pt x="18000" y="413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9200" y="3962520"/>
            <a:ext cx="1597320" cy="24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يضيف</a:t>
            </a:r>
            <a:endParaRPr b="0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إلى</a:t>
            </a:r>
            <a:endParaRPr b="0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العمر </a:t>
            </a:r>
            <a:endParaRPr b="0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7</a:t>
            </a:r>
            <a:endParaRPr b="0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سنوات</a:t>
            </a:r>
            <a:endParaRPr b="0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Arial Black"/>
              <a:ea typeface="Arial Black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543800" y="4572000"/>
            <a:ext cx="13683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الإقلاع باعتدال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يضيف </a:t>
            </a: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4</a:t>
            </a: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سنوات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7391520" y="5562720"/>
            <a:ext cx="16761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لو 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3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 علب فى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اليوم تساوى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خسارة 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18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 عاما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من العمر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638680" y="3581280"/>
            <a:ext cx="152424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لو </a:t>
            </a: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5</a:t>
            </a: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 فنجان قهوة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فى اليوم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تساوى </a:t>
            </a: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500</a:t>
            </a: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 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مليجرام كفايين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562720" y="5410080"/>
            <a:ext cx="16761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لو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2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 فنجان + تدخين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نقص = 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12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 عاما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3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905120" y="3124080"/>
            <a:ext cx="5333760" cy="76212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286000" y="3270240"/>
            <a:ext cx="4465800" cy="46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طرق التغلب على الإحباط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94" name=""/>
          <p:cNvSpPr/>
          <p:nvPr/>
        </p:nvSpPr>
        <p:spPr>
          <a:xfrm>
            <a:off x="5529240" y="2133720"/>
            <a:ext cx="1709640" cy="9903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910120" y="2270160"/>
            <a:ext cx="1100160" cy="70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معوق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لمسيرة</a:t>
            </a: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حيا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96" name=""/>
          <p:cNvSpPr/>
          <p:nvPr/>
        </p:nvSpPr>
        <p:spPr>
          <a:xfrm>
            <a:off x="1828800" y="21337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133720" y="2286000"/>
            <a:ext cx="1066680" cy="70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عجز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عن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انجاز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98" name=""/>
          <p:cNvSpPr/>
          <p:nvPr/>
        </p:nvSpPr>
        <p:spPr>
          <a:xfrm>
            <a:off x="3646440" y="2133720"/>
            <a:ext cx="1916280" cy="9903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038480" y="2286000"/>
            <a:ext cx="1143000" cy="70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يجعل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شاب</a:t>
            </a: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كهلا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1337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2270160"/>
            <a:ext cx="1066680" cy="70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هموم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غموم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كثير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76320"/>
            <a:ext cx="4876920" cy="9745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28600" y="136440"/>
            <a:ext cx="4429080" cy="77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احباط هو التوتر إلى حد الاستسلام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الشعور بالعجز والرغبة فى الانطواء والعزل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04" name=""/>
          <p:cNvSpPr/>
          <p:nvPr/>
        </p:nvSpPr>
        <p:spPr>
          <a:xfrm>
            <a:off x="5529240" y="1143000"/>
            <a:ext cx="1709640" cy="9907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5910120" y="1279440"/>
            <a:ext cx="1100160" cy="70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ضغوط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جتماعي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06" name=""/>
          <p:cNvSpPr/>
          <p:nvPr/>
        </p:nvSpPr>
        <p:spPr>
          <a:xfrm>
            <a:off x="1828800" y="1143000"/>
            <a:ext cx="1828800" cy="9907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133720" y="1295280"/>
            <a:ext cx="1066680" cy="70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فى العمل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فى الأسر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08" name=""/>
          <p:cNvSpPr/>
          <p:nvPr/>
        </p:nvSpPr>
        <p:spPr>
          <a:xfrm>
            <a:off x="3646440" y="1143000"/>
            <a:ext cx="1916280" cy="9907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038480" y="1295280"/>
            <a:ext cx="1143000" cy="70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ضعوط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نفسي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10" name=""/>
          <p:cNvSpPr/>
          <p:nvPr/>
        </p:nvSpPr>
        <p:spPr>
          <a:xfrm>
            <a:off x="7315200" y="3886200"/>
            <a:ext cx="1828800" cy="1447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7467480" y="4079880"/>
            <a:ext cx="1597320" cy="10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تنفيس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بالنفس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عميق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12" name=""/>
          <p:cNvSpPr/>
          <p:nvPr/>
        </p:nvSpPr>
        <p:spPr>
          <a:xfrm>
            <a:off x="5486400" y="3886200"/>
            <a:ext cx="1828800" cy="1447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562720" y="4079880"/>
            <a:ext cx="1596960" cy="10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تفريغ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عند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صاحب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3886200"/>
            <a:ext cx="1828800" cy="1447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733920" y="4079880"/>
            <a:ext cx="1596960" cy="10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بكاء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5334120"/>
            <a:ext cx="1828800" cy="14475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394400" y="5527800"/>
            <a:ext cx="1597320" cy="10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تبسيط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للحل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لا للتعقيد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5486400" y="5334120"/>
            <a:ext cx="1828800" cy="14475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562720" y="5527800"/>
            <a:ext cx="1596960" cy="10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هوايات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ممارس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تمتع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20" name=""/>
          <p:cNvSpPr/>
          <p:nvPr/>
        </p:nvSpPr>
        <p:spPr>
          <a:xfrm>
            <a:off x="1828800" y="3886200"/>
            <a:ext cx="1828800" cy="1447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905120" y="4079880"/>
            <a:ext cx="1596960" cy="10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خروج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هواء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طلق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22" name=""/>
          <p:cNvSpPr/>
          <p:nvPr/>
        </p:nvSpPr>
        <p:spPr>
          <a:xfrm>
            <a:off x="3657600" y="5334120"/>
            <a:ext cx="1828800" cy="14475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733920" y="5527800"/>
            <a:ext cx="1596960" cy="10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نسيان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بإسعاد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آخرين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24" name=""/>
          <p:cNvSpPr/>
          <p:nvPr/>
        </p:nvSpPr>
        <p:spPr>
          <a:xfrm>
            <a:off x="1828800" y="5334120"/>
            <a:ext cx="1828800" cy="14475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905120" y="5527800"/>
            <a:ext cx="1596960" cy="10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زمن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جزء من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علاج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886200"/>
            <a:ext cx="1828800" cy="1447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76320" y="4079880"/>
            <a:ext cx="1596960" cy="10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سترجاع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5334120"/>
            <a:ext cx="1828800" cy="14475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6320" y="5527800"/>
            <a:ext cx="1596960" cy="10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تغذي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بروتين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عسل وقرف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1143000"/>
            <a:ext cx="1828800" cy="9907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80880" y="1279440"/>
            <a:ext cx="1067040" cy="70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فى الطريق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فى الصح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32" name=""/>
          <p:cNvSpPr/>
          <p:nvPr/>
        </p:nvSpPr>
        <p:spPr>
          <a:xfrm>
            <a:off x="4952880" y="0"/>
            <a:ext cx="4191120" cy="114300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257800" y="301680"/>
            <a:ext cx="3508200" cy="69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كيف تقاوم الإحباط ؟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34" name=""/>
          <p:cNvSpPr/>
          <p:nvPr/>
        </p:nvSpPr>
        <p:spPr>
          <a:xfrm>
            <a:off x="7467480" y="990720"/>
            <a:ext cx="1524240" cy="1295280"/>
          </a:xfrm>
          <a:prstGeom prst="leftArrow">
            <a:avLst>
              <a:gd name="adj1" fmla="val 50000"/>
              <a:gd name="adj2" fmla="val 29419"/>
            </a:avLst>
          </a:prstGeom>
          <a:solidFill>
            <a:srgbClr val="ff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7696080" y="1355760"/>
            <a:ext cx="106380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أسبابه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</p:txBody>
      </p:sp>
      <p:sp>
        <p:nvSpPr>
          <p:cNvPr id="236" name=""/>
          <p:cNvSpPr/>
          <p:nvPr/>
        </p:nvSpPr>
        <p:spPr>
          <a:xfrm>
            <a:off x="7467480" y="2057400"/>
            <a:ext cx="1524240" cy="1295280"/>
          </a:xfrm>
          <a:prstGeom prst="leftArrow">
            <a:avLst>
              <a:gd name="adj1" fmla="val 50000"/>
              <a:gd name="adj2" fmla="val 29419"/>
            </a:avLst>
          </a:prstGeom>
          <a:solidFill>
            <a:srgbClr val="ff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7696080" y="2422440"/>
            <a:ext cx="106380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نتائجه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4T08:01:39Z</dcterms:created>
  <dc:creator> </dc:creator>
  <dc:description/>
  <dc:language>en-US</dc:language>
  <cp:lastModifiedBy>Gamal</cp:lastModifiedBy>
  <dcterms:modified xsi:type="dcterms:W3CDTF">2007-05-13T14:12:10Z</dcterms:modified>
  <cp:revision>52</cp:revision>
  <dc:subject/>
  <dc:title>عرض تقديمي من PowerPoint</dc:title>
</cp:coreProperties>
</file>